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72288" cy="97091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75675-AF31-4B85-982D-54B1DE427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C9C03-CF1D-4F81-AD8C-70548CE3C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0D058-AE0C-4749-B26A-F5F34E3EB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654BF-DFBC-4B85-AB16-72B996BAF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58ADB-4B73-4D4C-84F6-59A74C6A1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8832B-E29C-4967-8094-CCE973E88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CF68B-02AE-4CE1-9A2F-E0CC5DBF0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004DC-F71D-4850-8B35-7AE2EB064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0BE73-7337-4D4E-A82F-603C71447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1F43D-7682-475D-9CBE-BDDF5B414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4CD2B-0CB9-4648-AE83-45CBAB6E2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34DC4-86B9-47BC-84AA-A07744970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5F092-2EB3-47E3-9EB1-122594CD4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D46DE-F8B3-4CC3-A157-6EBBBFE01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1B34A-C26E-4A25-9B7E-51C03E2F4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4261B-FD50-486C-9417-876C0988D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38168-95BE-4D00-9F6E-E0E0799E7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CFD8A-FD9F-45B2-8AFD-A2DBA62C0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ED9CC-2184-481B-AF10-7A7F047D9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12255-BD39-4AF5-93E5-55D2487EB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06A34-7643-48D2-800A-6E7188A26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B4D06-E7F2-42DC-A6BA-60437E5D0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014F2-7BAC-4F5F-B7D1-6F78530D8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433AF-6BBD-4D49-9EA1-D3C10CA39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3EF77-D67D-48FF-842D-7E20EDF58D8C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89166-2359-4852-ABC2-3E34317FD9A9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4360" y="1510920"/>
            <a:ext cx="763272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Программа по профилактике наркомании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«Уберечь от дурмана»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Алкоголь, никотин, наркотики. Извечные и коварнейшие враги человечества. Значительная его часть находится в рабстве у этих веществ, недаром называемых дурманом, зельем, отравой. И число  плененных ими – по статистическим данным, не уменьшается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685800" y="1267920"/>
            <a:ext cx="7696080" cy="421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Программа должна способствовать формированию ответственности за свое собственное здоровье. Информационные, просветительные и воспитательные меры должны осуществляться в комплексе с профилактическими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02920" y="475920"/>
            <a:ext cx="6870600" cy="56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Цель программы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: формирование здоровых установок и навыков ответственного поведения, снижающих вероятность приобщения к употреблению наркотиков, табака, алкоголя и других психоактивных веществ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Задачи программы: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предоставить учащимся объективную, соответствующую возрасту информацию о наркотиках, табаке и алкоголе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учить детей лучше понимать самих себя и критически относиться к собственному поведению, способствовать к стремлению детей понять окружающих и анализировать свое отношение к ним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учить детей делать здоровый выбор и принимать ответственное решение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1403280" y="2133720"/>
            <a:ext cx="6688080" cy="223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Клубная деятельность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18920" y="4508280"/>
            <a:ext cx="6870600" cy="43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С помощью которой происходит реализация программы ЗОЖ «Уберечь от дурмана»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549360"/>
            <a:ext cx="6870600" cy="12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При формировании клуба необходимо учесть правила клуба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внимательно слушай говорящего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не критикуй говорящего, чтобы он ни сказал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если не хочешь говорить, можешь промолчать;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относись к другим так, как ты хочешь, чтобы другие относились к тебе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План создания клуба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Сбор учащихся 8 класса;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Выбор актива клуба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Выбор названия, девиза клуба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Ознакомление с планом мероприятий деятельности клуба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30T06:31:21Z</dcterms:created>
  <dc:creator>Цырма Михайловна</dc:creator>
  <dc:description/>
  <dc:language>en-US</dc:language>
  <cp:lastModifiedBy>Цырма Михайловна</cp:lastModifiedBy>
  <dcterms:modified xsi:type="dcterms:W3CDTF">2010-11-30T15:21:02Z</dcterms:modified>
  <cp:revision>3</cp:revision>
  <dc:subject/>
  <dc:title>Программа ЗОЖ</dc:title>
</cp:coreProperties>
</file>